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732-FD98-4497-915B-B9382C55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5A4-2E46-4B64-B83F-F9A59DAE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3EFD6-C84E-426B-8747-C8D31FAA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B5D14-29DD-4566-A285-F54B0AAD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B4B42-BAA0-415B-831B-53D1CE9A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B6803-E635-40CA-AD3E-DEFFEE2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06DD9-EC1F-45A3-91BC-C245C60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48F6E-B202-4F32-BED4-D2E2997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52F32-D66C-4352-B0C0-946CD303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4A49F-83F2-4C52-A09A-79F8E177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ECEF4-1A12-479A-AABA-C45BAAE1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44491-CC9F-4112-976D-173BD203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0A4-816E-4A92-9BF8-711731BA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D5B35-15D4-4475-9A50-862330B2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A36EB-6A94-499D-94A6-93260FAB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15B64-B775-4117-8234-682C22C1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589C6-7311-4133-B3E6-2AF05DC8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B3FA2-11B9-41AC-96F2-2A70B26F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4F78B-7527-4ED9-8956-5E92A843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741A0-9078-4C2C-B094-631015B0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1CD90-C5C7-4B9F-B7A4-3EF77A5A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270D0-8C7C-4E0A-8F1A-54EF0B61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63E42-E31D-463D-939D-CC40AC4D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716-5E77-4B58-8FFB-FBD9453C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0453B-5CA4-4AAA-8F4C-2F81F17E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8E6C9B-776C-46EE-8ECD-B9AD66AB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4309E1-80C5-4525-8C16-642E13E6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7784E7-1E3E-41D7-B44C-4BB69E56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B8FB36-9AB6-412C-9B80-78BCB1AD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EF627F-8BBD-4518-9DA9-31689237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396576-BD6E-4C7D-8FF4-4929AD70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3D4A62-EEC9-47F2-8B64-666F2322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884CC6-2CBF-420B-950D-DD25557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C9E26A-8512-4D28-9E2F-0C3F049C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5AAE-5464-4E87-8E25-4F35090A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5BB399-1F27-4E14-AC3C-B814C390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B96336-C756-4CEB-85E9-8F825283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36EE27-06D1-4558-B27D-F5371DB8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154F9-CB9A-4598-95F8-F1C12DCD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F4676-BD6F-4A96-A0F9-C630BD88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26C26-2D1F-45E4-9D61-07738006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397E9-33E4-451B-974E-4F41E6B3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FF027-91A0-4275-B92F-01ABF2E3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8CC16-BBA3-4A95-AD31-2EBA9796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6058B-F446-40E8-8F68-541A7772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EFE0-068F-4444-A93A-C88E560D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FE389-F1E3-4423-BC41-D942C18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D5179-E4EB-4059-8F7B-6456FA8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AB8EA-0B10-4243-B93C-4952DA3C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3958D-7DA0-4D71-A171-06CD6350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2DDB2-03A1-4576-8C13-E9D21329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EE9AB-EBB5-425E-AD4A-BAD950E8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7CD55-58CA-4313-96D9-4773A268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6F712-DB61-4AF0-9CF7-D3E3C48B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27032-70D2-4CCE-A86F-B0A3A8F5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25F51-C788-4CC1-9DB7-4348D1C8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B8BF-C418-41ED-B733-82577F73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DEFFD-68B0-42F1-ADBE-49372827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7DB0C-B3C8-4390-B9A3-7533E13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00165-8991-4767-9F28-1C2A573A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18C2B-6C09-4D38-91B1-EB067C8C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B064F-5BD2-489A-9A0C-495F2D86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2A346-5CCA-4C9C-875A-55C97C81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28C8B-4BE6-435B-A0EF-7F3C8D89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FB2B7-245C-4155-8181-4879C7BF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7C504-870E-40EA-A679-3DDCC4C7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3ECD4-F508-4456-BB2C-A48BF0B0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771C-389A-4D49-9677-92E53E85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1A242-7F2F-4CB4-B270-7DF0A3E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976E7-8627-49D3-9A95-81BF8D9B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D96E4-CEE3-427B-B27D-712CB7E2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AC670-A1CA-4919-82CD-0D9553F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E6F20-64D5-427A-8B31-174C925F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D3F27-7471-4266-B9D0-DADC6560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E6D93-4ABF-4202-9C7E-FEE549F1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FE713-38BB-4F21-AACA-C2727671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6AE03-1CDE-4E98-9A53-D36CCEF4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3DD5D-7520-4510-97D8-03C024DA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A44F-925A-443B-865C-7B2E4CE0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FF584-A50F-4F80-8B10-503BDC14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E42AF-4045-4989-A83C-700BF7D3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A82CD-CEF9-4191-ADCC-299A1E9C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8FB3D-325F-43CB-A806-C1EEDB09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00634-D28C-45B4-95A7-F4D848FC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8E698-9977-4D07-9683-CAE44E1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7F1B5-E518-44E3-B0FC-3FFEECAD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AB9E2-552A-4114-8B16-0B374566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49A127-FCB5-476D-BB7D-52F71CF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08887-CA58-4095-B2AC-283371A3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74C6-911E-4A6C-9F6A-276BB801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948FF-C667-4DBF-BE27-84740853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FCEFC-37CC-4673-8B06-C0E9F206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2DF39-5D37-4548-B9CD-6C289536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8AF58-F94B-4BF3-B64F-8D9EB155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E648E-9DA8-48FC-83D9-78060C16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6AC7D-9DD1-415C-8DDD-9189CE6A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D0C71-0F2C-4496-A327-C4A3A0CE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D62F5-6046-4D43-A728-9E19B4F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D7992-F9FC-4E3F-A2C3-117251D0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C87AC-3B13-4FBE-878C-1F938B98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542B-8C65-4DBE-A902-AC8977B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9E8145-EBAF-4010-BC56-516EAE0D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42241-0052-4FB4-BE8B-EC58E84C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FA5FC-1759-445A-BE4F-F19F5294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08B-20DE-4438-A537-AB7B68FB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F883-3278-4241-BC7D-D838D03E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FF99-5BFD-4C23-B9C2-AFF36E5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424C-D019-4B76-AD5B-03A08B2E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D5DC-3D9F-4A34-987A-ADC4192D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AD0D-8C35-40D3-93FD-3B66C558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398D-D2CA-4EDE-88D9-9CBC9C86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3A2E6-29B5-4895-B982-FE478322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C5C0-159A-456B-A9A3-E1EAAF3C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1BF2-4A5D-4483-85E7-85CE8DE8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76C0-48DA-45F5-942F-6C780A6F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7CB-AA58-4F55-82DC-3D43F355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4155-2A6D-4BDC-A219-795FE85A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FD25-E302-4732-A4C5-5003CA99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5174-13DD-4F3D-9DC2-352747D8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520C-41FD-43E1-B52A-BBCD79D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7ABD-F2B8-491C-A83B-1E99DA8B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0968-95BC-49C5-834B-32FB07C1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A2E5-3DAA-4330-A597-08A388D7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9AD6-8722-4E97-A380-F8FEF349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6DC1-C49B-43BA-B846-C03337C3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9B4D5-2FDB-4CD5-811F-88EE663C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B8F-1A01-492D-ADEC-72F8308E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F9F0-660D-41B2-9F87-207C2632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5EEB-F7EC-4630-B93D-237940B8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D7B9-4FD8-4378-8E59-B7C9B581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0AB8-1738-4A94-874D-3E8200D8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35BC0-6D49-46F6-B8C6-D276B48B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145F-1304-43C4-BE52-6448B242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B568-DFD5-4922-9316-5DA4E4D6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7A7C8-037B-4F03-B5B1-A2263F7B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C82C-7247-4C76-BD83-4F9C3C66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1866-99F7-456F-B002-154E2C60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3D5-F9CF-4991-8F32-7D53093E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7A17-4740-4162-A444-8AED6896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D65D6-369D-41FA-9161-21909D1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CF580-9951-4053-99E2-E9DE4B61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0B95-E4A9-49D1-894E-E2CB2DAE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4846-F20F-46F8-9437-C958B6D7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215C1-B0AF-4A9F-AD18-4536693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4370C-C701-4D7C-A299-A309E47B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BC8A-395E-4053-9E1B-9C0FFD3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41796-5F2D-4720-ACD2-BB15AC2D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C699-5EC5-4428-94D4-822D2801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2BD-D180-4E61-88D5-D72F883C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42752-AA64-4BDB-B824-F3FE01D4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5677D-27AE-4AA5-9BF0-104A2A5C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F747E-F639-4771-8A61-D0AC8992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7BD1B-6B4C-415D-866D-D184DF1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67627-94D9-47DE-A225-39CAC4F3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731E3-A1DE-4BD5-A501-E6F51971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4AB2-A98D-4881-B116-795D324B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29A61-A221-4AE3-987C-C1CA7F3F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54766-07C8-4137-85E5-9E5F310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0E3C-6D6C-418B-ACEB-D476FE7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195-4C9E-4109-9617-6C14E27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99FE7-9847-463E-B2B2-ACA113D7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5AA53-07E3-4CE3-88F9-E89371FA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72585-1841-44BF-B410-4EA5944F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B79F4-25DE-440D-8FAE-604071AE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AB43A-0FBE-447E-A639-E9A04491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45BF-EE05-404D-BF5B-085A7248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971DA-855C-4106-8120-18A87772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A9525-B4B0-476D-AFC1-5FAA916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83F18-10AD-463E-94AF-3B82770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183A6-3C82-4F3F-B6A9-2F7A446A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AE7-B074-4C4E-A537-4435A93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04BAC-8C13-4E95-A13F-28CC13B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E71B-BFDA-489A-9E11-13B0138E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5428C-4227-4FBD-9608-3114DC57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DE302-D4BC-419E-B7D2-B9D6C64B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C2BF6-F413-46BF-AFCF-2586D136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8662F-DD7A-43B3-B874-C2EB61E9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0FA20-A7C6-4BFD-9C1F-B573580C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27D5F-D9B7-49C1-82F8-22788526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DD948-817C-4EB5-8F14-762F692F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C24F6-0738-476B-96B6-EFDC4BC2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F87-D1C2-4F19-8987-AA745DB8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AB14B-E04F-40FC-8E77-95A7486C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6B4C8-F3DA-496E-847E-2EEA00CA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D3A79-194C-4E21-BF83-73466A88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55FBD-FA1E-499B-A3EA-4535C49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D3147-E47C-439C-84BD-C22AF577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2BCCF-2F34-4C55-B61C-777B4CD7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1674B-A528-4813-B397-D5BFB1CD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0A4BE-42A1-47D6-858A-3B0B41DB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D4BA3-D2F8-4343-9080-F47C1BA8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221BF-D49D-4972-BAFC-5D67934C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0D63-9EE4-4FA3-91C5-E2373BB91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206-96A6-4F4F-ADFE-DAF4DCDF67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6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060C-3F51-4A68-B7AD-8B78145F4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2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811A-234A-4326-BCE4-67FD445B3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7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8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8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8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9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0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0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2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4E1-0935-4C1E-B430-8A51437AED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7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7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8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8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9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9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1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B3BC-D320-47C0-AEA8-38A982E905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68D2-E71F-4510-AC3F-EF2FED0D32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A7D-3FAB-4BE4-B3C1-CE75A05709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6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6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6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6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367E-4140-46A8-BE4E-5B93E4F3D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F2FF-ABBA-4E61-8E0E-75DB9A2F4A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E0F-0642-4658-9A68-79053887C6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043F-8B41-448C-A36E-D3C77347CD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5B0C-D49F-40A9-B20A-50616F2340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14D7-DB31-4C89-9CA6-DF4A26C6C5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3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147E-EAA2-4AF1-A64A-1EBF8F093B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3B1B-B207-4636-A0B0-1F220898BE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qnyc.org/" TargetMode="External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qnyc.org/NYC052376/whatisworkshop_new.html" TargetMode="External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Workshop Model: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Optimizing the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Mini-less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ri Gr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larisa Konstantinovsk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702.22 – Fall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. O’Connor- Petru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nt form to the principal of the Title 1 school where the research will be condu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nt form to the parents/guardians of the student of inter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parents to obtain additional information about the particip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othe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rade teachers regarding their opinion of the effectiveness of the Workshop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veys to students about their opinion of the Workshop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endix A:  Consent For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al consent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EASE SIGN AND RETURN TO YOUR CHILD’S TEACH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mission to participate in the thesis p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ld’s name 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________  I give my permission for my child to participate in the anonym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is/research paper over the course of the school year of 200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ent/Guardian Signature: ____________________  Date: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al Consent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mission granted:  _______________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endix B:  Surve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parents/guardia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prefer that my child receives more direct reading instruction during school hour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teac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dents will score higher on standardized tests if they receive more direct reading instruc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 Survey to stud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ike reading independently in schoo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 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1"/>
          <a:stretch/>
        </p:blipFill>
        <p:spPr>
          <a:xfrm>
            <a:off x="3048120" y="3733920"/>
            <a:ext cx="2971800" cy="2133360"/>
          </a:xfrm>
          <a:prstGeom prst="rect">
            <a:avLst/>
          </a:prstGeom>
          <a:ln w="0">
            <a:noFill/>
          </a:ln>
        </p:spPr>
      </p:pic>
      <p:sp>
        <p:nvSpPr>
          <p:cNvPr id="1743" name=""/>
          <p:cNvSpPr/>
          <p:nvPr/>
        </p:nvSpPr>
        <p:spPr>
          <a:xfrm>
            <a:off x="838080" y="91440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TC or not to TC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at is the questio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ble of Cont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Statement of the Prob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Review of Related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Statement of the Hypo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Participants (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Instru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end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Appendix A:  Consent F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 Appendix B:  Surve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ement of the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 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e to grades falling and illiteracy rising, this research is based primarily on the “Workshop Model”; more exact the reading and writing workshop as described in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tqnyc.or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“The workshop model intends for the students to learn reading and writing skills through much participation amongst themselves and their peers”, which follows whole-word learning and is in direct opposition of the phonics methodolog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Teacher’s College format of the model itself is a scripted and timed method of teaching or facilitating learning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ach reading and writing workshop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consist of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Teaching Point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Address the standard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onnecti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Activate prior knowledge and focus attention on the lesson for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ini-lesson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Demonstrates the teaching point as if you were working independently for 10-15 minu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Lin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Review and clarify key points before sending them to work independently or in a group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Active Engagement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Students work independently or in groups while you are conferring or assessing individual or small groups of student readers or writers for 20-30 minutes based on your mini-less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Mid-Workshop Interrup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  Remind the students of the Teaching Point and compliment for no more than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Share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Two or three students get to share what they wrote or read, linked to the day's lesson for 1- 2 minut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Closure / Lin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Review and clarify key points for 1 minu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Homework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 Should be based on the teaching point of the day's less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urpose of the Th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ough this research the hope is to find out if such a rigorous structure of teaching is most beneficial for students or if more could be learned and retained without a time limitation and other restraint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Bibliograp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 Model.  (n.d.).  Retrieved September 30, 2008, from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tqnyc.org/NYC052376/whatisworkshop_new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s of the Workshop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eachers the opportunity to model skill or strategy (Adriana, 2006) (Robb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al mini-lesson allows teachers and students to succeed (Popham, 197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taught using the Workshop Model are more likely to read for pleasure (Lause, 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izes the class for each student (Carmicha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conferences with students (Furr, 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s of the Workshop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er a teachers contract, they cannot be excessively micromanaged (Callaci, 200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should decide how to teach his/her own students (Krasner, 197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 need to have the freedom to modify lessons and activities as needed (Lieberman, 2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atement of the Hypothe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Workshop Model’s rigorous time schedule will enhance the discipline to provide the optimum opportunity for third and fifth grade readers and writers (students) in a Title 1 school to gain knowledge and higher test score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ty-eight third and fifth grade students in a Title 1 school in Brooklyn, New Yor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0:37:10Z</dcterms:created>
  <dc:creator>0e-17</dc:creator>
  <dc:description/>
  <dc:language>en-US</dc:language>
  <cp:lastModifiedBy> Lori M Grabel</cp:lastModifiedBy>
  <dcterms:modified xsi:type="dcterms:W3CDTF">2008-12-04T00:28:27Z</dcterms:modified>
  <cp:revision>36</cp:revision>
  <dc:subject/>
  <dc:title>The Workshop Model: Optimizing the Mini-lesson</dc:title>
</cp:coreProperties>
</file>